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SC402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PSC404.wav" ContentType="audio/x-wav"/>
  <Override PartName="/ppt/media/image12.jpeg" ContentType="image/jpeg"/>
  <Override PartName="/ppt/media/image7.jpeg" ContentType="image/jpeg"/>
  <Override PartName="/ppt/media/image13.jpeg" ContentType="image/jpeg"/>
  <Override PartName="/ppt/media/PSC403.wav" ContentType="audio/x-wav"/>
  <Override PartName="/ppt/media/image2.jpeg" ContentType="image/jpeg"/>
  <Override PartName="/ppt/media/testdev.wav" ContentType="audio/x-wav"/>
  <Override PartName="/ppt/media/image1.jpeg" ContentType="image/jpeg"/>
  <Override PartName="/ppt/media/image3.jpeg" ContentType="image/jpeg"/>
  <Override PartName="/ppt/media/PSC401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550400" cy="7164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2CAF4-7C8D-4136-9A7E-1106F91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A8A5-805D-45B6-B91B-0DECCD7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66CA8-F532-49E3-AA94-43A2E8EC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0A114-5E89-4261-9883-D9F43347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6A22-21D8-4607-95D4-DA872D61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C4479-3E32-47E4-B223-4D6AE49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69AA-0D49-47B4-8600-B8D1C54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D67C-D22B-440F-950E-55955BF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FB1F-0ABC-4836-BD6A-DF30F22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4CF62-51E4-46B9-85B2-DC7D752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FB09A-238A-4D98-BFA7-426F53F6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FB90E-4DEE-403F-906D-8825A382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第二页"/>
          <p:cNvPicPr/>
          <p:nvPr/>
        </p:nvPicPr>
        <p:blipFill>
          <a:blip r:embed="rId3"/>
          <a:stretch/>
        </p:blipFill>
        <p:spPr>
          <a:xfrm>
            <a:off x="0" y="0"/>
            <a:ext cx="9550440" cy="716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84360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54C-7ECB-4B8A-8BE2-661A0C338B6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estdev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SC40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SC402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SC403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SC404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520" y="2141640"/>
            <a:ext cx="8764560" cy="2574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0" algn="ctr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计算机测试考生培训资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ctr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普通话水平智能测试系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指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11280" y="5248440"/>
            <a:ext cx="64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佩戴耳麦提示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1带耳机"/>
          <p:cNvPicPr/>
          <p:nvPr/>
        </p:nvPicPr>
        <p:blipFill>
          <a:blip r:embed="rId1"/>
          <a:stretch/>
        </p:blipFill>
        <p:spPr>
          <a:xfrm>
            <a:off x="1973160" y="1719360"/>
            <a:ext cx="5241960" cy="40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挂式耳麦佩戴图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侧面戴耳麦"/>
          <p:cNvPicPr/>
          <p:nvPr/>
        </p:nvPicPr>
        <p:blipFill>
          <a:blip r:embed="rId1"/>
          <a:stretch/>
        </p:blipFill>
        <p:spPr>
          <a:xfrm>
            <a:off x="871560" y="1838160"/>
            <a:ext cx="4734000" cy="426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正面带耳麦"/>
          <p:cNvPicPr/>
          <p:nvPr/>
        </p:nvPicPr>
        <p:blipFill>
          <a:blip r:embed="rId2"/>
          <a:stretch/>
        </p:blipFill>
        <p:spPr>
          <a:xfrm>
            <a:off x="4513320" y="1641600"/>
            <a:ext cx="453708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步：登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03440" y="1760040"/>
            <a:ext cx="80215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屏幕出现登陆界面后，考生填入自己的准考证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准考证号的前几位系统会自动显示，考生只需填写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最后四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填写完成后，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进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登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登录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1"/>
          <p:cNvPicPr/>
          <p:nvPr/>
        </p:nvPicPr>
        <p:blipFill>
          <a:blip r:embed="rId1"/>
          <a:stretch/>
        </p:blipFill>
        <p:spPr>
          <a:xfrm>
            <a:off x="914400" y="1557360"/>
            <a:ext cx="7542360" cy="48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步：核对个人信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95240" y="1576440"/>
            <a:ext cx="799776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登录成功后，考试机屏幕上会显示考生个人信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认真核对所显示信息是否与自己相符，核对无误后，单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确认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继续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对时若发现错误，可以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返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重新登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核对个人信息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2"/>
          <p:cNvPicPr/>
          <p:nvPr/>
        </p:nvPicPr>
        <p:blipFill>
          <a:blip r:embed="rId1"/>
          <a:stretch/>
        </p:blipFill>
        <p:spPr>
          <a:xfrm>
            <a:off x="982800" y="1415880"/>
            <a:ext cx="76104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四步：试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5680" y="1762200"/>
            <a:ext cx="793260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试音页面后，考生会听到系统的提示语，提示语结束后，请以适中的音量和语速朗读文本框中的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个人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进行试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试音失败，请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提高朗读音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新进行试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试音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5"/>
          <p:cNvPicPr/>
          <p:nvPr/>
        </p:nvPicPr>
        <p:blipFill>
          <a:blip r:embed="rId1"/>
          <a:stretch/>
        </p:blipFill>
        <p:spPr>
          <a:xfrm>
            <a:off x="957240" y="1281240"/>
            <a:ext cx="761220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stde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五步：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3080" y="157608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开始时，每一题都会有语音提示，请在语音提示结束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听到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的一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再开始朗读试题内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时第一题、第二题试题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横向朗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试题时注意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、错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每项试题后请立即点击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右下角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下一题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，防止录入太多空白音影响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过程中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试题内容无关的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有问题请举手示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6"/>
          <p:cNvPicPr/>
          <p:nvPr/>
        </p:nvPicPr>
        <p:blipFill>
          <a:blip r:embed="rId1"/>
          <a:stretch/>
        </p:blipFill>
        <p:spPr>
          <a:xfrm>
            <a:off x="824040" y="1332000"/>
            <a:ext cx="7989840" cy="51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SC4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7"/>
          <p:cNvPicPr/>
          <p:nvPr/>
        </p:nvPicPr>
        <p:blipFill>
          <a:blip r:embed="rId1"/>
          <a:stretch/>
        </p:blipFill>
        <p:spPr>
          <a:xfrm>
            <a:off x="914400" y="1352520"/>
            <a:ext cx="784224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SC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8"/>
          <p:cNvPicPr/>
          <p:nvPr/>
        </p:nvPicPr>
        <p:blipFill>
          <a:blip r:embed="rId1"/>
          <a:stretch/>
        </p:blipFill>
        <p:spPr>
          <a:xfrm>
            <a:off x="914400" y="1374840"/>
            <a:ext cx="7750080" cy="50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SC4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四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9"/>
          <p:cNvPicPr/>
          <p:nvPr/>
        </p:nvPicPr>
        <p:blipFill>
          <a:blip r:embed="rId1"/>
          <a:stretch/>
        </p:blipFill>
        <p:spPr>
          <a:xfrm>
            <a:off x="930240" y="1373040"/>
            <a:ext cx="7764480" cy="51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SC4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试结束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10"/>
          <p:cNvPicPr/>
          <p:nvPr/>
        </p:nvPicPr>
        <p:blipFill>
          <a:blip r:embed="rId1"/>
          <a:stretch/>
        </p:blipFill>
        <p:spPr>
          <a:xfrm>
            <a:off x="1596960" y="1890720"/>
            <a:ext cx="6478560" cy="43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8200" y="1530000"/>
            <a:ext cx="7889760" cy="499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考生正确戴上耳麦，并根据提示音进行试音；测试结束离开座位时，注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摘下耳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试试音时，要以正常适中音量朗读试音文字，正式测试的时候朗读音量要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与试音时保持一致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行测试的过程中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手不要触摸麦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同时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避免麦克与面部接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再次提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1240" y="1530000"/>
            <a:ext cx="8010720" cy="4600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试题为横向排列，考生朗读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注意横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，考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测试无关的内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免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读完每一题后，应及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点击下一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下一部分测试，以免录入太多的空白杂音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第四题说话部分由人工评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考生注意不要离题、不要背稿；说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满三分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，即可停止答题，结束测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结 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6800" y="3006360"/>
            <a:ext cx="8298000" cy="803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祝大家在测试中取得优异的成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测试简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5360" y="1695240"/>
            <a:ext cx="8170920" cy="474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普通话水平测试分为四个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一部分读单音节字词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5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二部分读多音节词语，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三部分朗读短文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四部分命题说话，不得少于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侯测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9520" y="2060640"/>
            <a:ext cx="8448840" cy="3643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加普通话水平测试的考生应在规定测试时间之前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三十分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到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侯测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报道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时间前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十五分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考务人员通知考生准备测试，考生交验准考证和身份证（或学生证）后，领取测试试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备测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770120"/>
            <a:ext cx="8142120" cy="4332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领取试卷后，考生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考务人员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进入备测室准备测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考生在备测室准备试题内容，不得在备测室内大声喧哗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得到考务人员上机测试的通知后，进入测试室进行测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测试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120" y="1661760"/>
            <a:ext cx="8153640" cy="471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进入测试室后即可按照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考试机页面提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开始测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除必要的操作外，考生不得随意设置和操作计算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出现死机等异常现象，考生应报告管理人员进行处理，不要擅自处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结束后考生应摘下耳机，轻声离开测试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系统简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8280" y="1676160"/>
            <a:ext cx="7929720" cy="426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ff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国家普通话水平智能测试系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参加普通话测试考生的考试应用软件，在考试过程中，考生可以按照测试程序的提示，逐步完成考试内容及相关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整的操作流程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847800" y="4726080"/>
            <a:ext cx="158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生登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2168640" y="472608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2562120" y="4699080"/>
            <a:ext cx="212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核对考生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5067360" y="4686480"/>
            <a:ext cx="992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5447880" y="469116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6235560" y="4699080"/>
            <a:ext cx="93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6675120" y="467352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7434360" y="4699080"/>
            <a:ext cx="157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交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4610160" y="470520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步：佩戴耳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8280" y="1680840"/>
            <a:ext cx="80773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入座后，考试机屏幕上会提示佩戴耳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戴上耳麦，将麦克风调节到离嘴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2-3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厘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，注意麦克风在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左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耳麦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头戴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后挂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考生需注意佩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好耳麦后，即可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下一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56:04Z</dcterms:created>
  <dc:creator>徐景明</dc:creator>
  <dc:description/>
  <dc:language>en-US</dc:language>
  <cp:lastModifiedBy>Sky123.Org</cp:lastModifiedBy>
  <dcterms:modified xsi:type="dcterms:W3CDTF">2014-10-17T07:26:52Z</dcterms:modified>
  <cp:revision>1581</cp:revision>
  <dc:subject/>
  <dc:title>PowerPoint 演示文稿</dc:title>
</cp:coreProperties>
</file>